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9AC-A663-481F-A575-D0321B8D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5CA-0C21-457C-8C4F-1C02F9B6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477-050A-4BCB-A577-7CD918A0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854-F928-4CEC-B9D2-E6B3C281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1C2D-479E-4531-9AD4-CCB4E02F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C934-722A-4EAA-93FB-C0047981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4E72-5BD2-4BB1-B0C8-3523DCD0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53DA-F53D-4595-BF8C-01B4ED04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6A5A-0A83-4E00-8BD8-9B5A3AE2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EB2A-E303-47DD-9CF9-4CE7511B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7EE2-8EA2-4A6A-B309-3B1691E0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DC2-1B2B-45BB-9EB1-CD0C17DA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8FE2-194E-44D3-9BEE-B28B1DD2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226B-C5FE-4D49-BC44-A1232893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43A9-2B9E-4114-AE41-D94486D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6B95-CC9B-4B37-8717-A655AC1B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1FE8-772B-4FDA-93AD-A3943753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C38C-15D3-4F28-BB35-F6C29984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2741A-CD9E-421C-8C8E-7F1BFF7F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A547-9FF2-4411-BB5B-469818FD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6C2B6-C563-41FB-BCB2-124386BB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5F6E-9008-4053-B2DD-42F08792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0CB-925F-4DD0-B2DD-85634E1B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9249-4ECF-4325-A0BD-B942530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41BC-932E-46B9-AB97-90D0AC8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B2A8-6A22-48BE-BFBC-23670FA2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43E0-8561-4441-9702-BF7FF4C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A3CB8-B1FD-4E3E-956F-9F8E1ECE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A4ED-8F43-4A61-A74D-26CEC41D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E4C04-BD23-4F5C-A26D-7CCD4902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883-C9AE-435B-A71B-4A226977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34A-EE83-4BBE-A80D-40EA0180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6BB-6A5D-417C-AE04-99DAA2DB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A36-F4EF-4544-AF27-6A67143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D3A-65E9-455A-A4E0-24382940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BD6-0CA5-43E8-A83E-0EF8966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2093-59B1-47A6-959A-9E22A90EF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FD7F-9C20-4DDC-9096-75ED1A0278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9D40-0A88-4582-8AAC-1CE2A8A721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i Bella Casa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Maddie Norfol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s el gara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araje es grande, y es bon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4429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 cas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asa es grande, bonita, y magni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7628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sal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sala es fabulosa, lujosa, y moder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94360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el comedor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medor es lujoso 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715000" cy="42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s el ba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es bello y moder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586728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s una cuart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uarto es bonita, fabulosa, y estupen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486400" cy="34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s una coci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cocina es increible y be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el pati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patio es bella y lujo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Es una jardi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jadin es bonita y be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1:01Z</dcterms:created>
  <dc:creator>norfolkmad</dc:creator>
  <dc:description/>
  <dc:language>en-US</dc:language>
  <cp:lastModifiedBy>norfolkmad</cp:lastModifiedBy>
  <dcterms:modified xsi:type="dcterms:W3CDTF">2012-10-25T17:28:04Z</dcterms:modified>
  <cp:revision>4</cp:revision>
  <dc:subject/>
  <dc:title>Mi Bella Casa </dc:title>
</cp:coreProperties>
</file>